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4AD-2F65-4139-B777-73F9E0CB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A93-845F-41CE-80BD-942AF258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904-7EA0-4360-81D0-631AE608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3344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303720"/>
            <a:ext cx="220788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DBD-D837-4A4D-B7EB-51E44E28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0C01-AFDC-41F9-A359-7851088B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956-A003-4863-9FC6-63B58CD6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5CE2-48F2-4FFE-8225-EAEA3A10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2D12-5F13-42C9-8724-8060D2CF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68580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34A3-C91E-4A20-AEFD-21282EEF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6E8-C382-4D8D-8FD2-207C14B0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30372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A64-C4A5-429C-8B76-275C4E76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33440"/>
            <a:ext cx="33465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303720"/>
            <a:ext cx="68580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D17D-E438-431A-96A8-38AECA17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68580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33440"/>
            <a:ext cx="68580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3440"/>
            <a:ext cx="24130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203440"/>
            <a:ext cx="17780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1187-6F29-4177-B9BA-E54174507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image" Target="../media/image1.png"/><Relationship Id="rId7" Type="http://schemas.openxmlformats.org/officeDocument/2006/relationships/slide" Target=""/><Relationship Id="rId8" Type="http://schemas.openxmlformats.org/officeDocument/2006/relationships/image" Target="../media/image1.png"/><Relationship Id="rId9" Type="http://schemas.openxmlformats.org/officeDocument/2006/relationships/slide" Target=""/><Relationship Id="rId10" Type="http://schemas.openxmlformats.org/officeDocument/2006/relationships/image" Target="../media/image1.png"/><Relationship Id="rId11" Type="http://schemas.openxmlformats.org/officeDocument/2006/relationships/slide" Target=""/><Relationship Id="rId12" Type="http://schemas.openxmlformats.org/officeDocument/2006/relationships/image" Target="../media/image1.png"/><Relationship Id="rId13" Type="http://schemas.openxmlformats.org/officeDocument/2006/relationships/slide" Target=""/><Relationship Id="rId14" Type="http://schemas.openxmlformats.org/officeDocument/2006/relationships/image" Target="../media/image1.png"/><Relationship Id="rId15" Type="http://schemas.openxmlformats.org/officeDocument/2006/relationships/slide" Target="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82840" y="2214720"/>
            <a:ext cx="850680" cy="806400"/>
            <a:chOff x="1482840" y="2214720"/>
            <a:chExt cx="850680" cy="806400"/>
          </a:xfrm>
        </p:grpSpPr>
        <p:grpSp>
          <p:nvGrpSpPr>
            <p:cNvPr id="42" name=""/>
            <p:cNvGrpSpPr/>
            <p:nvPr/>
          </p:nvGrpSpPr>
          <p:grpSpPr>
            <a:xfrm>
              <a:off x="1482840" y="2214720"/>
              <a:ext cx="850680" cy="806400"/>
              <a:chOff x="1482840" y="2214720"/>
              <a:chExt cx="850680" cy="806400"/>
            </a:xfrm>
          </p:grpSpPr>
          <p:sp>
            <p:nvSpPr>
              <p:cNvPr id="43" name=""/>
              <p:cNvSpPr/>
              <p:nvPr/>
            </p:nvSpPr>
            <p:spPr>
              <a:xfrm>
                <a:off x="1504800" y="2238480"/>
                <a:ext cx="814680" cy="782640"/>
              </a:xfrm>
              <a:custGeom>
                <a:avLst/>
                <a:gdLst/>
                <a:ahLst/>
                <a:rect l="l" t="t" r="r" b="b"/>
                <a:pathLst>
                  <a:path w="513" h="493">
                    <a:moveTo>
                      <a:pt x="0" y="0"/>
                    </a:moveTo>
                    <a:lnTo>
                      <a:pt x="512" y="0"/>
                    </a:lnTo>
                    <a:lnTo>
                      <a:pt x="512" y="492"/>
                    </a:lnTo>
                    <a:lnTo>
                      <a:pt x="0" y="49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482840" y="2214720"/>
                <a:ext cx="850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10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504800" y="2847960"/>
              <a:ext cx="17172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1486080" y="2200320"/>
            <a:ext cx="2516040" cy="2297160"/>
          </a:xfrm>
          <a:custGeom>
            <a:avLst/>
            <a:gdLst/>
            <a:ahLst/>
            <a:rect l="l" t="t" r="r" b="b"/>
            <a:pathLst>
              <a:path w="1585" h="1447">
                <a:moveTo>
                  <a:pt x="0" y="0"/>
                </a:moveTo>
                <a:lnTo>
                  <a:pt x="1584" y="0"/>
                </a:lnTo>
                <a:lnTo>
                  <a:pt x="1584" y="1446"/>
                </a:lnTo>
                <a:lnTo>
                  <a:pt x="0" y="1446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86080" y="942840"/>
            <a:ext cx="2541240" cy="1227240"/>
          </a:xfrm>
          <a:custGeom>
            <a:avLst/>
            <a:gdLst/>
            <a:ahLst/>
            <a:rect l="l" t="t" r="r" b="b"/>
            <a:pathLst>
              <a:path w="1601" h="773">
                <a:moveTo>
                  <a:pt x="1600" y="771"/>
                </a:moveTo>
                <a:lnTo>
                  <a:pt x="0" y="772"/>
                </a:lnTo>
                <a:lnTo>
                  <a:pt x="800" y="0"/>
                </a:lnTo>
                <a:lnTo>
                  <a:pt x="1600" y="77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494000" y="3683160"/>
            <a:ext cx="1233360" cy="916920"/>
            <a:chOff x="1494000" y="3683160"/>
            <a:chExt cx="1233360" cy="916920"/>
          </a:xfrm>
        </p:grpSpPr>
        <p:grpSp>
          <p:nvGrpSpPr>
            <p:cNvPr id="49" name=""/>
            <p:cNvGrpSpPr/>
            <p:nvPr/>
          </p:nvGrpSpPr>
          <p:grpSpPr>
            <a:xfrm>
              <a:off x="1494000" y="3683160"/>
              <a:ext cx="1233360" cy="916920"/>
              <a:chOff x="1494000" y="3683160"/>
              <a:chExt cx="1233360" cy="916920"/>
            </a:xfrm>
          </p:grpSpPr>
          <p:sp>
            <p:nvSpPr>
              <p:cNvPr id="50" name=""/>
              <p:cNvSpPr/>
              <p:nvPr/>
            </p:nvSpPr>
            <p:spPr>
              <a:xfrm>
                <a:off x="1495440" y="3705120"/>
                <a:ext cx="1231920" cy="812880"/>
              </a:xfrm>
              <a:custGeom>
                <a:avLst/>
                <a:gdLst/>
                <a:ahLst/>
                <a:rect l="l" t="t" r="r" b="b"/>
                <a:pathLst>
                  <a:path w="776" h="512">
                    <a:moveTo>
                      <a:pt x="0" y="0"/>
                    </a:moveTo>
                    <a:lnTo>
                      <a:pt x="775" y="0"/>
                    </a:lnTo>
                    <a:lnTo>
                      <a:pt x="775" y="511"/>
                    </a:lnTo>
                    <a:lnTo>
                      <a:pt x="0" y="51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494000" y="3683160"/>
                <a:ext cx="1220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ption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495440" y="4344840"/>
              <a:ext cx="171360" cy="1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"/>
          <p:cNvGrpSpPr/>
          <p:nvPr/>
        </p:nvGrpSpPr>
        <p:grpSpPr>
          <a:xfrm>
            <a:off x="3151080" y="2916360"/>
            <a:ext cx="882720" cy="761760"/>
            <a:chOff x="3151080" y="2916360"/>
            <a:chExt cx="882720" cy="761760"/>
          </a:xfrm>
        </p:grpSpPr>
        <p:grpSp>
          <p:nvGrpSpPr>
            <p:cNvPr id="54" name=""/>
            <p:cNvGrpSpPr/>
            <p:nvPr/>
          </p:nvGrpSpPr>
          <p:grpSpPr>
            <a:xfrm>
              <a:off x="3151080" y="2916360"/>
              <a:ext cx="882720" cy="761760"/>
              <a:chOff x="3151080" y="2916360"/>
              <a:chExt cx="882720" cy="761760"/>
            </a:xfrm>
          </p:grpSpPr>
          <p:sp>
            <p:nvSpPr>
              <p:cNvPr id="55" name=""/>
              <p:cNvSpPr/>
              <p:nvPr/>
            </p:nvSpPr>
            <p:spPr>
              <a:xfrm>
                <a:off x="3171960" y="2943360"/>
                <a:ext cx="850680" cy="734760"/>
              </a:xfrm>
              <a:custGeom>
                <a:avLst/>
                <a:gdLst/>
                <a:ahLst/>
                <a:rect l="l" t="t" r="r" b="b"/>
                <a:pathLst>
                  <a:path w="536" h="463">
                    <a:moveTo>
                      <a:pt x="0" y="0"/>
                    </a:moveTo>
                    <a:lnTo>
                      <a:pt x="535" y="0"/>
                    </a:lnTo>
                    <a:lnTo>
                      <a:pt x="535" y="462"/>
                    </a:lnTo>
                    <a:lnTo>
                      <a:pt x="0" y="46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151080" y="2916360"/>
                <a:ext cx="8827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red</a:t>
                </a:r>
                <a:r>
                  <a:rPr b="0" lang="en-US" sz="2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" name="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3171960" y="350532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2320920" y="2916360"/>
            <a:ext cx="857160" cy="772920"/>
            <a:chOff x="2320920" y="2916360"/>
            <a:chExt cx="857160" cy="772920"/>
          </a:xfrm>
        </p:grpSpPr>
        <p:grpSp>
          <p:nvGrpSpPr>
            <p:cNvPr id="59" name=""/>
            <p:cNvGrpSpPr/>
            <p:nvPr/>
          </p:nvGrpSpPr>
          <p:grpSpPr>
            <a:xfrm>
              <a:off x="2320920" y="2916360"/>
              <a:ext cx="857160" cy="772920"/>
              <a:chOff x="2320920" y="2916360"/>
              <a:chExt cx="857160" cy="772920"/>
            </a:xfrm>
          </p:grpSpPr>
          <p:sp>
            <p:nvSpPr>
              <p:cNvPr id="60" name=""/>
              <p:cNvSpPr/>
              <p:nvPr/>
            </p:nvSpPr>
            <p:spPr>
              <a:xfrm>
                <a:off x="2343240" y="2943360"/>
                <a:ext cx="822240" cy="745920"/>
              </a:xfrm>
              <a:custGeom>
                <a:avLst/>
                <a:gdLst/>
                <a:ahLst/>
                <a:rect l="l" t="t" r="r" b="b"/>
                <a:pathLst>
                  <a:path w="518" h="470">
                    <a:moveTo>
                      <a:pt x="0" y="0"/>
                    </a:moveTo>
                    <a:lnTo>
                      <a:pt x="517" y="0"/>
                    </a:lnTo>
                    <a:lnTo>
                      <a:pt x="517" y="469"/>
                    </a:lnTo>
                    <a:lnTo>
                      <a:pt x="0" y="4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320920" y="2916360"/>
                <a:ext cx="857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green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2" name="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343240" y="351648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1490760" y="2916360"/>
            <a:ext cx="839520" cy="772920"/>
            <a:chOff x="1490760" y="2916360"/>
            <a:chExt cx="839520" cy="772920"/>
          </a:xfrm>
        </p:grpSpPr>
        <p:grpSp>
          <p:nvGrpSpPr>
            <p:cNvPr id="64" name=""/>
            <p:cNvGrpSpPr/>
            <p:nvPr/>
          </p:nvGrpSpPr>
          <p:grpSpPr>
            <a:xfrm>
              <a:off x="1490760" y="2916360"/>
              <a:ext cx="839520" cy="772920"/>
              <a:chOff x="1490760" y="2916360"/>
              <a:chExt cx="839520" cy="772920"/>
            </a:xfrm>
          </p:grpSpPr>
          <p:sp>
            <p:nvSpPr>
              <p:cNvPr id="65" name=""/>
              <p:cNvSpPr/>
              <p:nvPr/>
            </p:nvSpPr>
            <p:spPr>
              <a:xfrm>
                <a:off x="1514520" y="2943360"/>
                <a:ext cx="803160" cy="745920"/>
              </a:xfrm>
              <a:custGeom>
                <a:avLst/>
                <a:gdLst/>
                <a:ahLst/>
                <a:rect l="l" t="t" r="r" b="b"/>
                <a:pathLst>
                  <a:path w="506" h="470">
                    <a:moveTo>
                      <a:pt x="0" y="0"/>
                    </a:moveTo>
                    <a:lnTo>
                      <a:pt x="505" y="0"/>
                    </a:lnTo>
                    <a:lnTo>
                      <a:pt x="505" y="469"/>
                    </a:lnTo>
                    <a:lnTo>
                      <a:pt x="0" y="4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feeee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490760" y="2916360"/>
                <a:ext cx="839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lu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7" name="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1514520" y="351648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3149640" y="2208240"/>
            <a:ext cx="865080" cy="709560"/>
            <a:chOff x="3149640" y="2208240"/>
            <a:chExt cx="865080" cy="709560"/>
          </a:xfrm>
        </p:grpSpPr>
        <p:grpSp>
          <p:nvGrpSpPr>
            <p:cNvPr id="69" name=""/>
            <p:cNvGrpSpPr/>
            <p:nvPr/>
          </p:nvGrpSpPr>
          <p:grpSpPr>
            <a:xfrm>
              <a:off x="3149640" y="2208240"/>
              <a:ext cx="865080" cy="709560"/>
              <a:chOff x="3149640" y="2208240"/>
              <a:chExt cx="865080" cy="709560"/>
            </a:xfrm>
          </p:grpSpPr>
          <p:sp>
            <p:nvSpPr>
              <p:cNvPr id="70" name=""/>
              <p:cNvSpPr/>
              <p:nvPr/>
            </p:nvSpPr>
            <p:spPr>
              <a:xfrm>
                <a:off x="3171960" y="2238480"/>
                <a:ext cx="831600" cy="679320"/>
              </a:xfrm>
              <a:custGeom>
                <a:avLst/>
                <a:gdLst/>
                <a:ahLst/>
                <a:rect l="l" t="t" r="r" b="b"/>
                <a:pathLst>
                  <a:path w="524" h="428">
                    <a:moveTo>
                      <a:pt x="0" y="0"/>
                    </a:moveTo>
                    <a:lnTo>
                      <a:pt x="523" y="0"/>
                    </a:lnTo>
                    <a:lnTo>
                      <a:pt x="523" y="427"/>
                    </a:lnTo>
                    <a:lnTo>
                      <a:pt x="0" y="427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49640" y="2208240"/>
                <a:ext cx="865080" cy="59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0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" name="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3171960" y="2744640"/>
              <a:ext cx="171360" cy="17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2320920" y="2209680"/>
            <a:ext cx="847800" cy="736560"/>
            <a:chOff x="2320920" y="2209680"/>
            <a:chExt cx="847800" cy="736560"/>
          </a:xfrm>
        </p:grpSpPr>
        <p:grpSp>
          <p:nvGrpSpPr>
            <p:cNvPr id="74" name=""/>
            <p:cNvGrpSpPr/>
            <p:nvPr/>
          </p:nvGrpSpPr>
          <p:grpSpPr>
            <a:xfrm>
              <a:off x="2320920" y="2209680"/>
              <a:ext cx="847800" cy="736560"/>
              <a:chOff x="2320920" y="2209680"/>
              <a:chExt cx="847800" cy="736560"/>
            </a:xfrm>
          </p:grpSpPr>
          <p:sp>
            <p:nvSpPr>
              <p:cNvPr id="75" name=""/>
              <p:cNvSpPr/>
              <p:nvPr/>
            </p:nvSpPr>
            <p:spPr>
              <a:xfrm>
                <a:off x="2343240" y="2238480"/>
                <a:ext cx="812880" cy="707760"/>
              </a:xfrm>
              <a:custGeom>
                <a:avLst/>
                <a:gdLst/>
                <a:ahLst/>
                <a:rect l="l" t="t" r="r" b="b"/>
                <a:pathLst>
                  <a:path w="512" h="446">
                    <a:moveTo>
                      <a:pt x="0" y="0"/>
                    </a:moveTo>
                    <a:lnTo>
                      <a:pt x="511" y="0"/>
                    </a:lnTo>
                    <a:lnTo>
                      <a:pt x="511" y="445"/>
                    </a:lnTo>
                    <a:lnTo>
                      <a:pt x="0" y="445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20920" y="2209680"/>
                <a:ext cx="8478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5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" name="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2343240" y="277344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2741760" y="3683160"/>
            <a:ext cx="1252440" cy="834840"/>
            <a:chOff x="2741760" y="3683160"/>
            <a:chExt cx="1252440" cy="834840"/>
          </a:xfrm>
        </p:grpSpPr>
        <p:grpSp>
          <p:nvGrpSpPr>
            <p:cNvPr id="79" name=""/>
            <p:cNvGrpSpPr/>
            <p:nvPr/>
          </p:nvGrpSpPr>
          <p:grpSpPr>
            <a:xfrm>
              <a:off x="2741760" y="3683160"/>
              <a:ext cx="1252440" cy="834840"/>
              <a:chOff x="2741760" y="3683160"/>
              <a:chExt cx="1252440" cy="834840"/>
            </a:xfrm>
          </p:grpSpPr>
          <p:sp>
            <p:nvSpPr>
              <p:cNvPr id="80" name=""/>
              <p:cNvSpPr/>
              <p:nvPr/>
            </p:nvSpPr>
            <p:spPr>
              <a:xfrm>
                <a:off x="2743200" y="3705120"/>
                <a:ext cx="1251000" cy="812880"/>
              </a:xfrm>
              <a:custGeom>
                <a:avLst/>
                <a:gdLst/>
                <a:ahLst/>
                <a:rect l="l" t="t" r="r" b="b"/>
                <a:pathLst>
                  <a:path w="788" h="512">
                    <a:moveTo>
                      <a:pt x="0" y="0"/>
                    </a:moveTo>
                    <a:lnTo>
                      <a:pt x="787" y="0"/>
                    </a:lnTo>
                    <a:lnTo>
                      <a:pt x="787" y="511"/>
                    </a:lnTo>
                    <a:lnTo>
                      <a:pt x="0" y="511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741760" y="3683160"/>
                <a:ext cx="1239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ption</a:t>
                </a:r>
                <a:r>
                  <a:rPr b="0" lang="en-US" sz="27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" name="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2743200" y="4344840"/>
              <a:ext cx="171360" cy="1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03280" y="241200"/>
            <a:ext cx="53085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ions for the </a:t>
            </a:r>
            <a:r>
              <a:rPr b="0" lang="en-US" sz="2600" spc="-1" strike="noStrike">
                <a:solidFill>
                  <a:srgbClr val="afeeee"/>
                </a:solidFill>
                <a:latin typeface="Times New Roman"/>
              </a:rPr>
              <a:t>blu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ea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.  Open Wo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.  Go to Smithsonian.com and find appropriate pictures or artifacts for this un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  Using copy/paste, create a coll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.  You may add text to the coll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  You may use Paintbrush and draw your own pictures to add to the coll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394320" y="4137120"/>
            <a:ext cx="965160" cy="893520"/>
            <a:chOff x="6394320" y="4137120"/>
            <a:chExt cx="965160" cy="893520"/>
          </a:xfrm>
        </p:grpSpPr>
        <p:grpSp>
          <p:nvGrpSpPr>
            <p:cNvPr id="85" name=""/>
            <p:cNvGrpSpPr/>
            <p:nvPr/>
          </p:nvGrpSpPr>
          <p:grpSpPr>
            <a:xfrm>
              <a:off x="6394320" y="4137120"/>
              <a:ext cx="965160" cy="893520"/>
              <a:chOff x="6394320" y="4137120"/>
              <a:chExt cx="965160" cy="893520"/>
            </a:xfrm>
          </p:grpSpPr>
          <p:sp>
            <p:nvSpPr>
              <p:cNvPr id="86" name=""/>
              <p:cNvSpPr/>
              <p:nvPr/>
            </p:nvSpPr>
            <p:spPr>
              <a:xfrm>
                <a:off x="6458040" y="4200480"/>
                <a:ext cx="839520" cy="830160"/>
              </a:xfrm>
              <a:custGeom>
                <a:avLst/>
                <a:gdLst/>
                <a:ahLst/>
                <a:rect l="l" t="t" r="r" b="b"/>
                <a:pathLst>
                  <a:path w="529" h="523">
                    <a:moveTo>
                      <a:pt x="528" y="521"/>
                    </a:moveTo>
                    <a:lnTo>
                      <a:pt x="0" y="522"/>
                    </a:lnTo>
                    <a:lnTo>
                      <a:pt x="264" y="0"/>
                    </a:lnTo>
                    <a:lnTo>
                      <a:pt x="528" y="521"/>
                    </a:lnTo>
                    <a:close/>
                  </a:path>
                </a:pathLst>
              </a:custGeom>
              <a:solidFill>
                <a:srgbClr val="ffc0cb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394320" y="4137120"/>
                <a:ext cx="96516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Times New Roman"/>
                  </a:rPr>
                  <a:t>Back</a:t>
                </a:r>
                <a:r>
                  <a:rPr b="0" lang="en-US" sz="27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458040" y="485784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3600" y="1041480"/>
            <a:ext cx="5899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ions for </a:t>
            </a:r>
            <a:r>
              <a:rPr b="0" lang="en-US" sz="2600" spc="-1" strike="noStrike">
                <a:solidFill>
                  <a:srgbClr val="00ff00"/>
                </a:solidFill>
                <a:latin typeface="Times New Roman"/>
              </a:rPr>
              <a:t>green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a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werpoint / 4-6 slides / text &amp; pic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803920" y="3803760"/>
            <a:ext cx="965160" cy="893520"/>
            <a:chOff x="5803920" y="3803760"/>
            <a:chExt cx="965160" cy="893520"/>
          </a:xfrm>
        </p:grpSpPr>
        <p:grpSp>
          <p:nvGrpSpPr>
            <p:cNvPr id="91" name=""/>
            <p:cNvGrpSpPr/>
            <p:nvPr/>
          </p:nvGrpSpPr>
          <p:grpSpPr>
            <a:xfrm>
              <a:off x="5803920" y="3803760"/>
              <a:ext cx="965160" cy="893520"/>
              <a:chOff x="5803920" y="3803760"/>
              <a:chExt cx="965160" cy="893520"/>
            </a:xfrm>
          </p:grpSpPr>
          <p:sp>
            <p:nvSpPr>
              <p:cNvPr id="92" name=""/>
              <p:cNvSpPr/>
              <p:nvPr/>
            </p:nvSpPr>
            <p:spPr>
              <a:xfrm>
                <a:off x="5867280" y="3867120"/>
                <a:ext cx="839880" cy="830160"/>
              </a:xfrm>
              <a:custGeom>
                <a:avLst/>
                <a:gdLst/>
                <a:ahLst/>
                <a:rect l="l" t="t" r="r" b="b"/>
                <a:pathLst>
                  <a:path w="529" h="523">
                    <a:moveTo>
                      <a:pt x="528" y="521"/>
                    </a:moveTo>
                    <a:lnTo>
                      <a:pt x="0" y="522"/>
                    </a:lnTo>
                    <a:lnTo>
                      <a:pt x="264" y="0"/>
                    </a:lnTo>
                    <a:lnTo>
                      <a:pt x="528" y="521"/>
                    </a:lnTo>
                    <a:close/>
                  </a:path>
                </a:pathLst>
              </a:custGeom>
              <a:solidFill>
                <a:srgbClr val="ffc0cb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803920" y="3803760"/>
                <a:ext cx="96516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Times New Roman"/>
                  </a:rPr>
                  <a:t>Back</a:t>
                </a:r>
                <a:r>
                  <a:rPr b="0" lang="en-US" sz="27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5867280" y="4524480"/>
              <a:ext cx="17172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755720" y="831960"/>
            <a:ext cx="5213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structions for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red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a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2-15 Interview questions/answ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51320" y="3727440"/>
            <a:ext cx="965160" cy="893880"/>
            <a:chOff x="5251320" y="3727440"/>
            <a:chExt cx="965160" cy="893880"/>
          </a:xfrm>
        </p:grpSpPr>
        <p:grpSp>
          <p:nvGrpSpPr>
            <p:cNvPr id="97" name=""/>
            <p:cNvGrpSpPr/>
            <p:nvPr/>
          </p:nvGrpSpPr>
          <p:grpSpPr>
            <a:xfrm>
              <a:off x="5251320" y="3727440"/>
              <a:ext cx="965160" cy="893880"/>
              <a:chOff x="5251320" y="3727440"/>
              <a:chExt cx="965160" cy="893880"/>
            </a:xfrm>
          </p:grpSpPr>
          <p:sp>
            <p:nvSpPr>
              <p:cNvPr id="98" name=""/>
              <p:cNvSpPr/>
              <p:nvPr/>
            </p:nvSpPr>
            <p:spPr>
              <a:xfrm>
                <a:off x="5315040" y="3790800"/>
                <a:ext cx="839520" cy="830520"/>
              </a:xfrm>
              <a:custGeom>
                <a:avLst/>
                <a:gdLst/>
                <a:ahLst/>
                <a:rect l="l" t="t" r="r" b="b"/>
                <a:pathLst>
                  <a:path w="529" h="523">
                    <a:moveTo>
                      <a:pt x="528" y="521"/>
                    </a:moveTo>
                    <a:lnTo>
                      <a:pt x="0" y="522"/>
                    </a:lnTo>
                    <a:lnTo>
                      <a:pt x="264" y="0"/>
                    </a:lnTo>
                    <a:lnTo>
                      <a:pt x="528" y="521"/>
                    </a:lnTo>
                    <a:close/>
                  </a:path>
                </a:pathLst>
              </a:custGeom>
              <a:solidFill>
                <a:srgbClr val="ffc0cb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51320" y="3727440"/>
                <a:ext cx="96516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Times New Roman"/>
                  </a:rPr>
                  <a:t>Back</a:t>
                </a:r>
                <a:r>
                  <a:rPr b="0" lang="en-US" sz="27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5315040" y="444816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46440" y="803160"/>
            <a:ext cx="186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onus 10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118200" y="3403440"/>
            <a:ext cx="965160" cy="893880"/>
            <a:chOff x="6118200" y="3403440"/>
            <a:chExt cx="965160" cy="893880"/>
          </a:xfrm>
        </p:grpSpPr>
        <p:grpSp>
          <p:nvGrpSpPr>
            <p:cNvPr id="103" name=""/>
            <p:cNvGrpSpPr/>
            <p:nvPr/>
          </p:nvGrpSpPr>
          <p:grpSpPr>
            <a:xfrm>
              <a:off x="6118200" y="3403440"/>
              <a:ext cx="965160" cy="893880"/>
              <a:chOff x="6118200" y="3403440"/>
              <a:chExt cx="965160" cy="893880"/>
            </a:xfrm>
          </p:grpSpPr>
          <p:sp>
            <p:nvSpPr>
              <p:cNvPr id="104" name=""/>
              <p:cNvSpPr/>
              <p:nvPr/>
            </p:nvSpPr>
            <p:spPr>
              <a:xfrm>
                <a:off x="6181560" y="3467160"/>
                <a:ext cx="839880" cy="830160"/>
              </a:xfrm>
              <a:custGeom>
                <a:avLst/>
                <a:gdLst/>
                <a:ahLst/>
                <a:rect l="l" t="t" r="r" b="b"/>
                <a:pathLst>
                  <a:path w="529" h="523">
                    <a:moveTo>
                      <a:pt x="528" y="521"/>
                    </a:moveTo>
                    <a:lnTo>
                      <a:pt x="0" y="522"/>
                    </a:lnTo>
                    <a:lnTo>
                      <a:pt x="264" y="0"/>
                    </a:lnTo>
                    <a:lnTo>
                      <a:pt x="528" y="521"/>
                    </a:lnTo>
                    <a:close/>
                  </a:path>
                </a:pathLst>
              </a:custGeom>
              <a:solidFill>
                <a:srgbClr val="ffc0cb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118200" y="3403440"/>
                <a:ext cx="96516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Times New Roman"/>
                  </a:rPr>
                  <a:t>Back</a:t>
                </a:r>
                <a:r>
                  <a:rPr b="0" lang="en-US" sz="27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6181560" y="4124160"/>
              <a:ext cx="17172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1812960" y="1517760"/>
            <a:ext cx="437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nited Streaming Assig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atch Movi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swer Quest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int Ou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5232240" y="2727360"/>
            <a:ext cx="965520" cy="893880"/>
            <a:chOff x="5232240" y="2727360"/>
            <a:chExt cx="965520" cy="893880"/>
          </a:xfrm>
        </p:grpSpPr>
        <p:grpSp>
          <p:nvGrpSpPr>
            <p:cNvPr id="109" name=""/>
            <p:cNvGrpSpPr/>
            <p:nvPr/>
          </p:nvGrpSpPr>
          <p:grpSpPr>
            <a:xfrm>
              <a:off x="5232240" y="2727360"/>
              <a:ext cx="965520" cy="893880"/>
              <a:chOff x="5232240" y="2727360"/>
              <a:chExt cx="965520" cy="893880"/>
            </a:xfrm>
          </p:grpSpPr>
          <p:sp>
            <p:nvSpPr>
              <p:cNvPr id="110" name=""/>
              <p:cNvSpPr/>
              <p:nvPr/>
            </p:nvSpPr>
            <p:spPr>
              <a:xfrm>
                <a:off x="5295960" y="2790720"/>
                <a:ext cx="839880" cy="830520"/>
              </a:xfrm>
              <a:custGeom>
                <a:avLst/>
                <a:gdLst/>
                <a:ahLst/>
                <a:rect l="l" t="t" r="r" b="b"/>
                <a:pathLst>
                  <a:path w="529" h="523">
                    <a:moveTo>
                      <a:pt x="528" y="521"/>
                    </a:moveTo>
                    <a:lnTo>
                      <a:pt x="0" y="522"/>
                    </a:lnTo>
                    <a:lnTo>
                      <a:pt x="264" y="0"/>
                    </a:lnTo>
                    <a:lnTo>
                      <a:pt x="528" y="521"/>
                    </a:lnTo>
                    <a:close/>
                  </a:path>
                </a:pathLst>
              </a:custGeom>
              <a:solidFill>
                <a:srgbClr val="ffc0cb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232240" y="2727360"/>
                <a:ext cx="96552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Times New Roman"/>
                  </a:rPr>
                  <a:t>Back</a:t>
                </a:r>
                <a:r>
                  <a:rPr b="0" lang="en-US" sz="27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5295960" y="344808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"/>
          <p:cNvSpPr/>
          <p:nvPr/>
        </p:nvSpPr>
        <p:spPr>
          <a:xfrm>
            <a:off x="1346040" y="888840"/>
            <a:ext cx="2737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onus 1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reate Timelin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5603760" y="3470400"/>
            <a:ext cx="965160" cy="893520"/>
            <a:chOff x="5603760" y="3470400"/>
            <a:chExt cx="965160" cy="893520"/>
          </a:xfrm>
        </p:grpSpPr>
        <p:grpSp>
          <p:nvGrpSpPr>
            <p:cNvPr id="115" name=""/>
            <p:cNvGrpSpPr/>
            <p:nvPr/>
          </p:nvGrpSpPr>
          <p:grpSpPr>
            <a:xfrm>
              <a:off x="5603760" y="3470400"/>
              <a:ext cx="965160" cy="893520"/>
              <a:chOff x="5603760" y="3470400"/>
              <a:chExt cx="965160" cy="893520"/>
            </a:xfrm>
          </p:grpSpPr>
          <p:sp>
            <p:nvSpPr>
              <p:cNvPr id="116" name=""/>
              <p:cNvSpPr/>
              <p:nvPr/>
            </p:nvSpPr>
            <p:spPr>
              <a:xfrm>
                <a:off x="5667480" y="3533760"/>
                <a:ext cx="839520" cy="830160"/>
              </a:xfrm>
              <a:custGeom>
                <a:avLst/>
                <a:gdLst/>
                <a:ahLst/>
                <a:rect l="l" t="t" r="r" b="b"/>
                <a:pathLst>
                  <a:path w="529" h="523">
                    <a:moveTo>
                      <a:pt x="528" y="521"/>
                    </a:moveTo>
                    <a:lnTo>
                      <a:pt x="0" y="522"/>
                    </a:lnTo>
                    <a:lnTo>
                      <a:pt x="264" y="0"/>
                    </a:lnTo>
                    <a:lnTo>
                      <a:pt x="528" y="521"/>
                    </a:lnTo>
                    <a:close/>
                  </a:path>
                </a:pathLst>
              </a:custGeom>
              <a:solidFill>
                <a:srgbClr val="ffc0cb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03760" y="3470400"/>
                <a:ext cx="96516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Times New Roman"/>
                  </a:rPr>
                  <a:t>Back</a:t>
                </a:r>
                <a:r>
                  <a:rPr b="0" lang="en-US" sz="27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5667480" y="419112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1336680" y="946080"/>
            <a:ext cx="5899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onus 2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spiration Project: Point of Vie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hoose 2 characters and create memoi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ntry--you may even choose the suit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voice for each charact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631880" y="727200"/>
            <a:ext cx="5327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ption 1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ing graphic organizer, choose 1 bubble from each main topic and as a note, write 1-2 sentences explaining more deta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23040" y="3699000"/>
            <a:ext cx="965160" cy="893520"/>
            <a:chOff x="5423040" y="3699000"/>
            <a:chExt cx="965160" cy="893520"/>
          </a:xfrm>
        </p:grpSpPr>
        <p:grpSp>
          <p:nvGrpSpPr>
            <p:cNvPr id="122" name=""/>
            <p:cNvGrpSpPr/>
            <p:nvPr/>
          </p:nvGrpSpPr>
          <p:grpSpPr>
            <a:xfrm>
              <a:off x="5423040" y="3699000"/>
              <a:ext cx="965160" cy="893520"/>
              <a:chOff x="5423040" y="3699000"/>
              <a:chExt cx="965160" cy="893520"/>
            </a:xfrm>
          </p:grpSpPr>
          <p:sp>
            <p:nvSpPr>
              <p:cNvPr id="123" name=""/>
              <p:cNvSpPr/>
              <p:nvPr/>
            </p:nvSpPr>
            <p:spPr>
              <a:xfrm>
                <a:off x="5486400" y="3762360"/>
                <a:ext cx="839880" cy="830160"/>
              </a:xfrm>
              <a:custGeom>
                <a:avLst/>
                <a:gdLst/>
                <a:ahLst/>
                <a:rect l="l" t="t" r="r" b="b"/>
                <a:pathLst>
                  <a:path w="529" h="523">
                    <a:moveTo>
                      <a:pt x="528" y="521"/>
                    </a:moveTo>
                    <a:lnTo>
                      <a:pt x="0" y="522"/>
                    </a:lnTo>
                    <a:lnTo>
                      <a:pt x="264" y="0"/>
                    </a:lnTo>
                    <a:lnTo>
                      <a:pt x="528" y="521"/>
                    </a:lnTo>
                    <a:close/>
                  </a:path>
                </a:pathLst>
              </a:custGeom>
              <a:solidFill>
                <a:srgbClr val="ffc0cb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423040" y="3699000"/>
                <a:ext cx="96516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Times New Roman"/>
                  </a:rPr>
                  <a:t>Back</a:t>
                </a:r>
                <a:r>
                  <a:rPr b="0" lang="en-US" sz="27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5486400" y="441972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4600" y="479520"/>
            <a:ext cx="5365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ption 2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sing graphic organizer, choose 1 bubble from each main topic and as a note, write a paragraph explaining more detail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489560" y="2860560"/>
            <a:ext cx="965160" cy="893880"/>
            <a:chOff x="4489560" y="2860560"/>
            <a:chExt cx="965160" cy="893880"/>
          </a:xfrm>
        </p:grpSpPr>
        <p:grpSp>
          <p:nvGrpSpPr>
            <p:cNvPr id="128" name=""/>
            <p:cNvGrpSpPr/>
            <p:nvPr/>
          </p:nvGrpSpPr>
          <p:grpSpPr>
            <a:xfrm>
              <a:off x="4489560" y="2860560"/>
              <a:ext cx="965160" cy="893880"/>
              <a:chOff x="4489560" y="2860560"/>
              <a:chExt cx="965160" cy="893880"/>
            </a:xfrm>
          </p:grpSpPr>
          <p:sp>
            <p:nvSpPr>
              <p:cNvPr id="129" name=""/>
              <p:cNvSpPr/>
              <p:nvPr/>
            </p:nvSpPr>
            <p:spPr>
              <a:xfrm>
                <a:off x="4552920" y="2924280"/>
                <a:ext cx="839880" cy="830160"/>
              </a:xfrm>
              <a:custGeom>
                <a:avLst/>
                <a:gdLst/>
                <a:ahLst/>
                <a:rect l="l" t="t" r="r" b="b"/>
                <a:pathLst>
                  <a:path w="529" h="523">
                    <a:moveTo>
                      <a:pt x="528" y="521"/>
                    </a:moveTo>
                    <a:lnTo>
                      <a:pt x="0" y="522"/>
                    </a:lnTo>
                    <a:lnTo>
                      <a:pt x="264" y="0"/>
                    </a:lnTo>
                    <a:lnTo>
                      <a:pt x="528" y="521"/>
                    </a:lnTo>
                    <a:close/>
                  </a:path>
                </a:pathLst>
              </a:custGeom>
              <a:solidFill>
                <a:srgbClr val="ffc0cb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89560" y="2860560"/>
                <a:ext cx="96516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ff0000"/>
                    </a:solidFill>
                    <a:latin typeface="Times New Roman"/>
                  </a:rPr>
                  <a:t>Back</a:t>
                </a:r>
                <a:r>
                  <a:rPr b="0" lang="en-US" sz="27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4552920" y="3581280"/>
              <a:ext cx="171360" cy="1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4T14:01:19Z</dcterms:created>
  <dc:creator>Iris Praid</dc:creator>
  <dc:description/>
  <dc:language>en-US</dc:language>
  <cp:lastModifiedBy>Iris Praid</cp:lastModifiedBy>
  <dcterms:modified xsi:type="dcterms:W3CDTF">2008-01-22T19:08:55Z</dcterms:modified>
  <cp:revision>1</cp:revision>
  <dc:subject/>
  <dc:title>Slide 1</dc:title>
</cp:coreProperties>
</file>